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D2E-4396-48CB-AFEB-A3875B85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0D3-B51A-4F21-AFEA-4FBF193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B1D2B-B77E-45BE-80EA-473900B619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DDB49-A4AB-457A-B4A3-49CDE03E6D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CC4F8-98C2-4FF8-BADD-19AC6A5D90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88709-2D1F-4717-A932-9C5E0A2D6A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0C087-2A97-49F1-9006-94A3C5F1EB5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12D42-FB9E-4402-A002-6068AF29F35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B1348-56CB-4B63-B814-5CA621325A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6A4F8-8C9C-43AF-A97C-3F23658BC31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11C51-1A52-4B7B-8C15-2AF04FDF62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DD8F2-58CF-4D2E-BAE9-E106C6CB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AE9-8429-4B7E-AE0A-C94C4B0D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84DA1-C3F4-45CF-8BC3-079915F7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DD8C4E-12FE-46FD-AC84-A3482D04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B0820-3911-4FB6-BBE8-7033DAD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28A63-D815-4499-B190-4FE29CF2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F819E-0C20-4DB1-891B-80A0AB3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BB4555-A8CE-406D-8046-ABA3964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7B785-5F67-4B97-9DCB-F503E90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CD2521-5ECF-444F-88D7-21D7E7F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E7754F-33AA-44BE-91D4-FF811D0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D7932-2F9F-4EE5-8768-08A9A632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B5C-3DFE-46A4-AC20-8FD77C4C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61FD8-1AE9-47B6-91C3-283BC3DF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5360F3-88B3-4C00-8E22-02A3DAD1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4D2C72-1967-481D-BF3C-5AB763F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FBD4DC-4F16-402E-8EE5-0A951844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BE8BEE-AE64-4266-AE49-4A89BE0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16F93-74E7-4CAE-8B92-CAC81E2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70F3F-E4AE-4077-872C-E4AD608D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54D045-FD7F-4F3C-A9F2-886F87E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B8D5D-F08A-4B52-A023-FF4BCDC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D7FD5-3E7A-40D4-8C7A-8C91CC5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6AD0A6-09BF-49D2-A5A3-E08C74E2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BF25F-0233-4251-B8DD-6408A973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E9657-56DA-446D-BECC-C595D4FD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297B43-A7BB-4FFD-8261-7A3FD2FE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74DF41-27DA-4CD8-B5AF-41D9B24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BEB935-1E91-4357-A642-FA0E586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89FBCD-0937-4B60-AC94-764DF0F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745203-D2E0-4E5A-9208-B5DDD42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A46FD9-4005-41E2-AD39-734C5FF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88FF62-5246-43B6-AE71-52EFBAF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47F83C-6621-4061-9949-78DAF57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E73104-C29F-40CA-92DC-DEDD9E80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734C32-7CC2-4E0A-9539-EDBF29D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67D8C2-F6BA-41A1-BED8-21CFE9F0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351E22-7349-4747-AAEA-A1527CC9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B8F69-9D4A-4280-9153-DBFF2A6EE9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30ED1-ADD8-45FB-A4BA-234FBB03BC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EF066-9E8E-420A-A45E-06A7C3F230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47269-E5BB-411A-88B6-CEE58247B1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9A468-19E7-4698-A377-62BEF24FA79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198DB-DA6D-449E-8D8F-E0577D912B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E2A2A-3E64-41FC-B6DB-46E68EB791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62C57-491B-40BC-9202-E88EE4FE9E7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75E67-6BDB-4EEF-BA86-CAE78C1FB34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D51A-CDCC-4D48-BF14-AAF44CA91D6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08695-1853-4305-855F-AB97584F96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72C73-EFEF-4CA6-9A90-B2C92D5E1C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FE4-7595-45DB-9B37-4E5E529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C181-C7B8-4490-8D90-4A007DB2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BA8-EAFB-4159-8BB3-88E0106A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A6A0-D366-42A5-AF9D-9C55B6E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56F-8059-4C79-8493-6FBC856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186-F7FB-4932-ADF2-2439B7D4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42F-6468-4C42-A0A9-F7D789A9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BF6-AE4B-41F4-B067-08B85EB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42C-A16F-41E4-A6E4-6E4DCCF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ACF2-3594-477D-AC75-68284D70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6BE0-256D-4DEA-A7ED-FAC3F19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C047-9585-47CB-928C-0DC9FAE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B94-FDBB-4DA0-877E-4A6E01FD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BC0F-C400-47CD-8BAD-21B58AD9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FF0E-A8DE-4173-9104-5B1E2EC3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5B46-48D0-4A6A-97D3-D59BB36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2287-DE83-4066-9682-1C079DF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82E-CA95-492D-BF2E-A39AC76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3E3C-8A3C-41D2-A9F5-C10C58F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05BA-8F8F-49A4-A678-097C7C9B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68CD-FD89-45BF-A8B7-3ACCE25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4153-CBC8-40E0-A3C0-4369DA6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628B-DBCE-4081-B845-5980695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E4ED-FE53-4FD5-A96A-D4BCB18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22F9-5D6A-4EBA-9841-0FA1479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B660-7AD1-44F3-82CD-A12BF2F1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CFD5-08C6-40B7-A835-B48890C8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8591-FC08-42BC-89B1-13239FC8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E93-8794-4E11-843B-43E4C8BE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C02B-281E-4BF0-ADFF-91C5EB96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73C0-6094-4E82-B699-5B3DC4E6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3AE9-0CC7-40A8-9EE7-7A33BA3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377C-BEDA-4189-8C1F-D3B9FCA2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28BE-8797-4398-A6F6-C0E3D18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A72D-D933-4569-A221-0039097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27AC-A7CF-4FF7-B45A-3DE715C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3383-5F88-4327-BAFE-EEBEDD8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BC5A-0F5B-486F-8134-30DA29AB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E9F1-D191-45F6-AAB5-EAAF29CC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88D-07C4-4060-8D66-4E05192D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FE8E-6DC6-422D-9234-EE5AE677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1EA6-A5CB-4666-8101-271D2CD9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AB17-7AC7-4BC6-B5CD-D162AE2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AD56-CF97-4F4E-AEA8-F8ADE750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D9F9-D37D-4FBC-93C7-7D0135C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4C0F-90DA-4AB9-9A9D-41230C46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3E8D-E896-46DA-8B3D-A9B4EA6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E817-D804-40A8-9427-4B6D9E4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F80A-5767-4509-832A-2AC8C2B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DCC7-90C7-461D-8EC3-5A8BDF9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083-6AD5-4FDE-8798-5FD2ACE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216BB-674C-40D5-96F9-4FA0852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BE92-3996-4312-9304-5DEEDE8E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B4234-EB76-4837-A080-43EAB5BD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CB4C-ECB2-4E04-8674-FE263689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3385-79BE-4E4D-B9AE-508C911A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2822-C9D0-40CD-8503-7E4B7B34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2099-330A-4AA2-9FDE-E184DCF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A711-D879-4663-9A5F-6ACA301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D629-E93A-4E11-A888-C0836B8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7EC1-3FAF-4206-A271-2D4F5F5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4CD-D512-482D-804F-02F6C19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1956-5CD3-4B9A-B3F7-88EDAFD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95A15-0CE8-4A09-A9B5-4B6280D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538C-16D6-45BF-92A3-96F93C5B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88FE-B0D7-4FC0-A8E8-1ED40984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D288-A2D9-4611-858A-EDA89518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0545-841A-4FAF-A4C7-FD6F079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E54A6-F780-463E-B0E7-54F173C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E98A-A8D0-47FC-ADF5-A57FA122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3FC1-18FE-4210-B6CF-00733F2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B023-9B0B-4CD6-A014-56E573A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EB9-409B-4ED9-BC7F-8A0299E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02C6-14CF-454F-A4AA-DEB379AA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9CDCB-06FE-44A7-9ED1-8152150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FA7C-8AC8-4198-9519-EFA3A6D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4D6D-04A8-4995-A2CD-693D5646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7AA0-27E6-4EAF-AA2E-0587215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9E33-A931-4F23-A50B-B7CF13D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165F-39FC-4555-BA5D-FD5D64F0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8BCFE-4805-4C91-9CD5-528CE4D3DF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963D1-C063-443A-A427-AE9D00562A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3143E-1EAC-4412-9017-3DA58A6D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82E-79DB-407A-98DD-E0E82882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509-5DEA-40EF-B438-D6736091C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7748-BDA9-4B00-9D67-19DFA30FAC44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F821-B381-401D-B028-01B104A2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818-17BA-4B3C-B7B3-FDA2BB05A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FE67-3616-4099-8BE7-8B0DC47DA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4669-8CD6-4AA3-9900-7D30E1CBEBD8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28D-CC22-4380-AEA8-99AB30B10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9C0-27BE-42F0-9627-7B5B1699D93E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B277-D492-4A23-B6E8-06C4395D0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4C1-9A27-4020-A882-3884AD8305A8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2"/>
          </p:nvPr>
        </p:nvSpPr>
        <p:spPr>
          <a:xfrm>
            <a:off x="0" y="6381360"/>
            <a:ext cx="678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6EC-171C-493A-9493-BF40E256E4C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ycles of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like the one-way flow of energy, matter is recycled within and between eco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ycles are the water cycle, Nutrient Cycle, Carbon Cycle, nitrogen cycle and phosphorus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Ecolog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tudy of interactions among organisms and between organisms and their enviro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s the combined portions of the planet in which life exists, including land, water, and air or atmosp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evels of Organiz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Species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group of organisms so similar to one another that they can breed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re groups of individuals that belong to the same species and live in the same area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Communities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re assemblages of the different populations that live together ina defined area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Ecosystem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collection of all the organisms that live together in a particular place as well as their nonliving or physical environmen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Biome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group of ecosystems that have the same climate and similar dominant communitie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 is the main source of energy for life on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ypes of organisms rely on the energy stored in inorganic chemical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ophs (producers) use energy from the environment to fuel assembly of simple compounds into complex organic molecu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otrop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know autotrophs are those that harness the power of the sun through photosynthesis.  They use this energy to convert carbon dioxide and water into oxygen and gluc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 type of autotrophs use chemical energy to make carbohydrates.  This is performed by several types of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terotrophs (consumers) rely on other organisms for their energy and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erb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btain energy by eating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n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at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mn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at both plants and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trit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eed on the remains of plants, animals and other dead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compose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reaks down organic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eding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Energy flow through an ecosystem in one direction, from the sun or inorganic compounds to autotrophs (producers) and then to various heterotrophs (consum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1645"/>
                </a:solidFill>
                <a:uFillTx/>
                <a:latin typeface="Arial"/>
              </a:rPr>
              <a:t>Food Chains</a:t>
            </a: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 are a series of steps in which organisms transfer energy by eating or being e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1645"/>
                </a:solidFill>
                <a:uFillTx/>
                <a:latin typeface="Arial"/>
              </a:rPr>
              <a:t>Food webs</a:t>
            </a: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 show the complex interactions within an eco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Each step in a food chain or web is called a trophic level.  Producers make up the first step, consumers make up the higher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cological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cological pyramid is a diagram that shows the relationship amounts of energy or matter contained within each trophic level in a food web or food ch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nly 10% of the energy available within one trophic level is transferred to organisms at the next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ramids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iomass pyramid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 the total amount of living tissue available at each trophic level.  This shows the amount of tissue available for the next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mbers pyramid shows the number of species at each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each trophic level harvests only about one tenth of the energy from the level below, it can support only about o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e amount of living tiss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5:11:11Z</dcterms:created>
  <dc:creator> </dc:creator>
  <dc:description/>
  <dc:language>en-US</dc:language>
  <cp:lastModifiedBy>Lyn Clarkson</cp:lastModifiedBy>
  <dcterms:modified xsi:type="dcterms:W3CDTF">2009-08-26T00:13:13Z</dcterms:modified>
  <cp:revision>18</cp:revision>
  <dc:subject/>
  <dc:title>Ecology</dc:title>
</cp:coreProperties>
</file>